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clap.wav" ContentType="audio/x-wav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1.png" ContentType="image/png"/>
  <Override PartName="/ppt/media/image3.jpeg" ContentType="image/jpeg"/>
  <Override PartName="/ppt/media/gunshot.wav" ContentType="audio/x-wav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AE4-D93C-4860-9938-1A04B49B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8D3-DABF-43BD-81F5-F793C96C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697-B102-4085-BF40-7F1FDF42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233-AD51-4D62-B1E3-51F802EF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A1C4-F19C-4739-B640-8AF57DB0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EFD8-C93F-4C17-84D8-8FFE4F02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CE73-657D-44CA-92C2-07B65D0E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F6C2-CD68-4477-8088-FD8DC8C4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071D-82D8-4D9E-B3FE-DE775455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AF78-8183-45F6-A7BD-2FE55EC9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1312-8093-419F-AC83-2B79310E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386-6019-49F5-B678-DA745A6F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85CE-A640-42E2-A535-0055478F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9DD3-70FD-471F-A20D-81C64421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46F2-41FC-400E-A263-3A53846D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9D70-25AF-4ED1-A121-F7FA6AFF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49A1-A843-4212-8CFA-9A502EEB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4AA-E597-4982-B6A0-C62BD465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DFD-CB20-470F-BF72-EF0C4E88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128-7936-4C7B-8FDE-E5F69D6B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BF5-E47E-4761-B20F-EC030E36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A10-DE68-41C5-886D-3149ECD3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DFC-1579-460B-A72D-64731D34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BEA-ADAF-4154-9358-28270168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027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028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29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3727-4A23-4975-B09A-D65B45835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8B2F-0D02-4F3D-82B3-3B9F61CF4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auses of WW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90560" y="2742840"/>
            <a:ext cx="5181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i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gnificant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643280" y="404640"/>
            <a:ext cx="403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A. Finemes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ww.SchoolHistory.co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1.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8 June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r to Austrian throne Franz Ferdinand visits Saraje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ital of Bosnia, recently grabbed by A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tbed of Slav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FRANZ FERD"/>
          <p:cNvPicPr/>
          <p:nvPr/>
        </p:nvPicPr>
        <p:blipFill>
          <a:blip r:embed="rId1"/>
          <a:stretch/>
        </p:blipFill>
        <p:spPr>
          <a:xfrm>
            <a:off x="5059440" y="1752480"/>
            <a:ext cx="3017880" cy="2691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the-seal-of-the-Black-Hand"/>
          <p:cNvPicPr/>
          <p:nvPr/>
        </p:nvPicPr>
        <p:blipFill>
          <a:blip r:embed="rId2"/>
          <a:stretch/>
        </p:blipFill>
        <p:spPr>
          <a:xfrm>
            <a:off x="6286680" y="4545000"/>
            <a:ext cx="1714320" cy="1703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5013360" y="495144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l of the Black Hand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ack Hand” terrorists attack the Arch D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mb attempt fails in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vrilo Princip shoots Archduke and wife in the aftern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ns blame Serbia for supporting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BLOODY JACKET"/>
          <p:cNvPicPr/>
          <p:nvPr/>
        </p:nvPicPr>
        <p:blipFill>
          <a:blip r:embed="rId1"/>
          <a:stretch/>
        </p:blipFill>
        <p:spPr>
          <a:xfrm>
            <a:off x="6781680" y="175248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PRINCIP"/>
          <p:cNvPicPr/>
          <p:nvPr/>
        </p:nvPicPr>
        <p:blipFill>
          <a:blip r:embed="rId2"/>
          <a:stretch/>
        </p:blipFill>
        <p:spPr>
          <a:xfrm>
            <a:off x="6964200" y="4191120"/>
            <a:ext cx="1494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3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strians, supported by Germany, send Serbia a tough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 agrees to all but two terms of the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mobilises her troops to support 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mands that Russia stands her armies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clares war o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berchtold"/>
          <p:cNvPicPr/>
          <p:nvPr/>
        </p:nvPicPr>
        <p:blipFill>
          <a:blip r:embed="rId1"/>
          <a:stretch/>
        </p:blipFill>
        <p:spPr>
          <a:xfrm>
            <a:off x="6477120" y="3733920"/>
            <a:ext cx="160020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248520" y="2209680"/>
            <a:ext cx="213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mands must be put to Serbia that would be wholly impossible for them to accept 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Why did Britain get involved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tain ha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ten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“friendly agreements” but French and Russians given impression Britain would f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chlieffe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Sir%20Edward%20Grey+"/>
          <p:cNvPicPr/>
          <p:nvPr/>
        </p:nvPicPr>
        <p:blipFill>
          <a:blip r:embed="rId1"/>
          <a:stretch/>
        </p:blipFill>
        <p:spPr>
          <a:xfrm>
            <a:off x="5483160" y="2971800"/>
            <a:ext cx="21924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410080" y="198108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r Edward 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ritish Foreign Secretary  … “There’s some devilry going on in Berli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y’s military plan to defeat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nock out blow” aimed at France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oid French defences by invasion of Belg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s thought Britain would not interv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planSchlieffen"/>
          <p:cNvPicPr/>
          <p:nvPr/>
        </p:nvPicPr>
        <p:blipFill>
          <a:blip r:embed="rId1"/>
          <a:stretch/>
        </p:blipFill>
        <p:spPr>
          <a:xfrm>
            <a:off x="4876920" y="1905120"/>
            <a:ext cx="34290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Britain’s Re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38- UK had signed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ea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protect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also scared of Germany controll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not wan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defeat France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minate Euro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Britain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K issu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ltimat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Germany to withdraw troops from Belgium.  War declared August 4 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scrapofpaper-1914-britain"/>
          <p:cNvPicPr/>
          <p:nvPr/>
        </p:nvPicPr>
        <p:blipFill>
          <a:blip r:embed="rId1"/>
          <a:stretch/>
        </p:blipFill>
        <p:spPr>
          <a:xfrm>
            <a:off x="5226120" y="1676520"/>
            <a:ext cx="3308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the UK to build battle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an attack on their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readnought"/>
          <p:cNvPicPr/>
          <p:nvPr/>
        </p:nvPicPr>
        <p:blipFill>
          <a:blip r:embed="rId1"/>
          <a:stretch/>
        </p:blipFill>
        <p:spPr>
          <a:xfrm>
            <a:off x="6067440" y="1981080"/>
            <a:ext cx="254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Russia and France to expand their ar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88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7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40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RUSSIAN TROOPS"/>
          <p:cNvPicPr/>
          <p:nvPr/>
        </p:nvPicPr>
        <p:blipFill>
          <a:blip r:embed="rId1"/>
          <a:stretch/>
        </p:blipFill>
        <p:spPr>
          <a:xfrm>
            <a:off x="6095880" y="167652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wilhelm and troops"/>
          <p:cNvPicPr/>
          <p:nvPr/>
        </p:nvPicPr>
        <p:blipFill>
          <a:blip r:embed="rId2"/>
          <a:stretch/>
        </p:blipFill>
        <p:spPr>
          <a:xfrm>
            <a:off x="6146640" y="3962520"/>
            <a:ext cx="2463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llia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1914 all the major powers were linked by a system of alli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lliances made it more likely that a war would st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started, the alliances made it more likely to sp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ALLINANCES"/>
          <p:cNvPicPr/>
          <p:nvPr/>
        </p:nvPicPr>
        <p:blipFill>
          <a:blip r:embed="rId1"/>
          <a:stretch/>
        </p:blipFill>
        <p:spPr>
          <a:xfrm>
            <a:off x="4724280" y="2119320"/>
            <a:ext cx="38894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the great powers were competing for colonies / terri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Germany in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ustrians feared Serbia / Russia in the Balk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Nation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was an age when all nations wanted to assert their power and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Europe Slavs, aided by Serbia and Russia, wanted to be free of Austrian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serb symbol"/>
          <p:cNvPicPr/>
          <p:nvPr/>
        </p:nvPicPr>
        <p:blipFill>
          <a:blip r:embed="rId1"/>
          <a:stretch/>
        </p:blipFill>
        <p:spPr>
          <a:xfrm>
            <a:off x="4173480" y="3886200"/>
            <a:ext cx="1693800" cy="2666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867280" y="4724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’s national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iser Wilhelm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ilt up German army and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gressive foreign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rmined to make Germany a top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usted by other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Kaiser bill"/>
          <p:cNvPicPr/>
          <p:nvPr/>
        </p:nvPicPr>
        <p:blipFill>
          <a:blip r:embed="rId1"/>
          <a:stretch/>
        </p:blipFill>
        <p:spPr>
          <a:xfrm>
            <a:off x="6611760" y="3092400"/>
            <a:ext cx="2075040" cy="2927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477120" y="1781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rmany must have its place in the 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world belongs to the strong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 Bercht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strian Prime Min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ring the July Crisis, decided on a very tough ultimatum for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berchtold"/>
          <p:cNvPicPr/>
          <p:nvPr/>
        </p:nvPicPr>
        <p:blipFill>
          <a:blip r:embed="rId1"/>
          <a:stretch/>
        </p:blipFill>
        <p:spPr>
          <a:xfrm>
            <a:off x="5311800" y="1752480"/>
            <a:ext cx="240012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410080" y="518148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re the Serbs to agree to all the demands, this would not be to my li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thmann Hollw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 Prime Min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ve very strong support to Austria during the July crisis while Kaiser was cruising on his y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ethmann Hollweg"/>
          <p:cNvPicPr/>
          <p:nvPr/>
        </p:nvPicPr>
        <p:blipFill>
          <a:blip r:embed="rId1"/>
          <a:stretch/>
        </p:blipFill>
        <p:spPr>
          <a:xfrm>
            <a:off x="6202440" y="1752480"/>
            <a:ext cx="2027160" cy="2660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172200" y="4565520"/>
            <a:ext cx="2514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Austrian demands are moderate.  Any interference by Britain, France and Russia would be followed by incalculable consequen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8:16:01Z</dcterms:created>
  <dc:creator>nshaw</dc:creator>
  <dc:description/>
  <dc:language>en-US</dc:language>
  <cp:lastModifiedBy>Sacerdote, Kevin R.</cp:lastModifiedBy>
  <dcterms:modified xsi:type="dcterms:W3CDTF">2015-11-21T14:42:15Z</dcterms:modified>
  <cp:revision>16</cp:revision>
  <dc:subject/>
  <dc:title>The Causes of WW1</dc:title>
</cp:coreProperties>
</file>